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4. Mar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8364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Robin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1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Project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5760" y="1103400"/>
            <a:ext cx="8776440" cy="4898160"/>
            <a:chOff x="185760" y="1103400"/>
            <a:chExt cx="8776440" cy="4898160"/>
          </a:xfrm>
        </p:grpSpPr>
        <p:grpSp>
          <p:nvGrpSpPr>
            <p:cNvPr id="89" name=""/>
            <p:cNvGrpSpPr/>
            <p:nvPr/>
          </p:nvGrpSpPr>
          <p:grpSpPr>
            <a:xfrm>
              <a:off x="185760" y="1103400"/>
              <a:ext cx="8776440" cy="4898160"/>
              <a:chOff x="185760" y="1103400"/>
              <a:chExt cx="8776440" cy="4898160"/>
            </a:xfrm>
          </p:grpSpPr>
          <p:sp>
            <p:nvSpPr>
              <p:cNvPr id="90" name=""/>
              <p:cNvSpPr/>
              <p:nvPr/>
            </p:nvSpPr>
            <p:spPr>
              <a:xfrm>
                <a:off x="185760" y="1103400"/>
                <a:ext cx="8776440" cy="489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0920" y="1103400"/>
                <a:ext cx="8685000" cy="48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36880" y="1148760"/>
              <a:ext cx="8705880" cy="46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roduct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6250 platform, Wolf4 follower project.   Bar phone design, cost optimized feature se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xcellent audio device, outstanding design and supporting music related NOP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roje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L-T:  Klaus-Peter Bräuherr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PM:  Jörg Hantsche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M:  tbd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A: Wolfgang Stei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Mileston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2 Apr 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1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5 Jul 05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4 Feb 06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t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0 May 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6 Sep 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0 Mar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7 Jun 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2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 Dec 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7 Apr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rototype builds over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5 May 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0 Aug 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1+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26 Oct 05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10 Jan 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otal project development costs: 18,3 Mio €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velopment costs FY 04/05: 9,3 Mio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OM target: 100 €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OM actual: 110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Time to market sum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irst bottom up planning done, strong dependency on in-time Wolf5 SW delivera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Robin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2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Major Progress and Achiev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5760" y="1103400"/>
            <a:ext cx="8776440" cy="4995000"/>
            <a:chOff x="185760" y="1103400"/>
            <a:chExt cx="8776440" cy="4995000"/>
          </a:xfrm>
        </p:grpSpPr>
        <p:grpSp>
          <p:nvGrpSpPr>
            <p:cNvPr id="95" name=""/>
            <p:cNvGrpSpPr/>
            <p:nvPr/>
          </p:nvGrpSpPr>
          <p:grpSpPr>
            <a:xfrm>
              <a:off x="185760" y="1103400"/>
              <a:ext cx="8776440" cy="4995000"/>
              <a:chOff x="185760" y="1103400"/>
              <a:chExt cx="8776440" cy="4995000"/>
            </a:xfrm>
          </p:grpSpPr>
          <p:sp>
            <p:nvSpPr>
              <p:cNvPr id="96" name=""/>
              <p:cNvSpPr/>
              <p:nvPr/>
            </p:nvSpPr>
            <p:spPr>
              <a:xfrm>
                <a:off x="185760" y="1103400"/>
                <a:ext cx="8776440" cy="4995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0920" y="1103400"/>
                <a:ext cx="8685000" cy="49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36880" y="1149480"/>
              <a:ext cx="8705880" cy="47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Team/Resources/Ski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PLs assigned, regular </a:t>
              </a: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PD Team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meetings insta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artner and Contra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egular Robin </a:t>
              </a: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Telco with QCT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insta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SW-Development (Platform, Drivers, Tools, U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Draft Feature List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Mechan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StackUp concept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review d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dustrial design and stackup concepts are ma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latform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euse of Wolf5 battery, Wolf4 stereo speaker, Wolf4 display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General Project Management, Quality, Costs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irst </a:t>
              </a: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BOM calculation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based on Wolf4 d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Draft  time scheduli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d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7480" indent="-874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 u="sng">
                  <a:solidFill>
                    <a:srgbClr val="ff0000"/>
                  </a:solidFill>
                  <a:uFillTx/>
                  <a:latin typeface="Arial"/>
                  <a:ea typeface="SimSun"/>
                </a:rPr>
                <a:t>HW Aal handover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ong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623880"/>
                <a:tab algn="r" pos="6183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Robin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UM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3.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SimSun"/>
              </a:rPr>
              <a:t>Risks, Problems and Corrective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5760" y="1103400"/>
            <a:ext cx="8776440" cy="4962960"/>
            <a:chOff x="185760" y="1103400"/>
            <a:chExt cx="8776440" cy="4962960"/>
          </a:xfrm>
        </p:grpSpPr>
        <p:grpSp>
          <p:nvGrpSpPr>
            <p:cNvPr id="101" name=""/>
            <p:cNvGrpSpPr/>
            <p:nvPr/>
          </p:nvGrpSpPr>
          <p:grpSpPr>
            <a:xfrm>
              <a:off x="185760" y="1103400"/>
              <a:ext cx="8776440" cy="4962960"/>
              <a:chOff x="185760" y="1103400"/>
              <a:chExt cx="8776440" cy="4962960"/>
            </a:xfrm>
          </p:grpSpPr>
          <p:sp>
            <p:nvSpPr>
              <p:cNvPr id="102" name=""/>
              <p:cNvSpPr/>
              <p:nvPr/>
            </p:nvSpPr>
            <p:spPr>
              <a:xfrm>
                <a:off x="185760" y="1103400"/>
                <a:ext cx="8776440" cy="4962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0920" y="1103400"/>
                <a:ext cx="8685000" cy="496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36880" y="1149120"/>
              <a:ext cx="8705880" cy="29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72000" anchor="t">
              <a:spAutoFit/>
            </a:bodyPr>
            <a:p>
              <a:pPr marL="544680" indent="-5446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Partner and Contract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44680" indent="-5446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isk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Insufficient Qualcomm support for Robin feasibility study (SW workshop, SW documentation, Robin feature se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44680" indent="-5446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verity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edium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sible impact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lay of feasibility studies and M0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44680" indent="-5446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ctions taken: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First telco with SD done, get agreement on relevant next steps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44680" indent="-5446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44680" indent="-5446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SimSun"/>
                </a:rPr>
                <a:t>SW-Development (Platform, Drivers, Tools, U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44680" indent="-5446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isk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Strong dependency on Wolf5 deliverables from Qual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44680" indent="-5446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verity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edium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sible impact: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o support of key features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44680" indent="-5446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536400"/>
                  <a:tab algn="l" pos="1081080"/>
                  <a:tab algn="l" pos="2147760"/>
                  <a:tab algn="l" pos="2684520"/>
                  <a:tab algn="l" pos="4397400"/>
                  <a:tab algn="l" pos="4746600"/>
                  <a:tab algn="l" pos="6632640"/>
                  <a:tab algn="l" pos="7083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ctions taken: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trengthen information flow between W5 and Robin project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5:34:47Z</dcterms:created>
  <dc:creator>Claus Ziegler</dc:creator>
  <dc:description/>
  <dc:language>en-US</dc:language>
  <cp:lastModifiedBy>Schmitz Juergen</cp:lastModifiedBy>
  <cp:lastPrinted>2004-02-29T14:41:19Z</cp:lastPrinted>
  <dcterms:modified xsi:type="dcterms:W3CDTF">2005-03-14T10:07:18Z</dcterms:modified>
  <cp:revision>17</cp:revision>
  <dc:subject/>
  <dc:title>EGL products platform</dc:title>
</cp:coreProperties>
</file>